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2.jpeg" ContentType="image/jpeg"/>
  <Override PartName="/ppt/media/image11.png" ContentType="image/png"/>
  <Override PartName="/ppt/media/image7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9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2.jpeg" ContentType="image/jpe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C52D0-A78C-4804-B12A-1A58B2784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B5021-EFA9-432B-A7F7-919252D22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8578B-5D83-44A5-A3DB-539CE08C8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0F7D5-2EF4-4808-B598-B8E9196B6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67725-AFFE-4C53-8F4A-AED5A64CC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DCCE2-EFBA-4122-A028-5EF416D75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F98A0-9384-4E1D-8F30-6F2012958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F1768-7A3D-40EE-8DC7-FD2700160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45F3D-D970-4813-81AE-CA4C79410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388F6-398F-4BB7-9853-C12E9E8C1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8D505-41B6-4F4A-84E4-50C75C6F1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9768E-2FC3-4E9C-ABE9-5E1322185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D2260-AA5A-4F3D-A501-1EC2D19D01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ain 16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-17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Centu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9320" y="2057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wer, Land, Religious Conformity- Roman Catholicism, Gold, 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Spanish%20Flag"/>
          <p:cNvPicPr/>
          <p:nvPr/>
        </p:nvPicPr>
        <p:blipFill>
          <a:blip r:embed="rId1"/>
          <a:stretch/>
        </p:blipFill>
        <p:spPr>
          <a:xfrm>
            <a:off x="2133720" y="3753000"/>
            <a:ext cx="4190760" cy="310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scorial- King’s Palac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e Palace tell you about Philip II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el%20escorial"/>
          <p:cNvPicPr/>
          <p:nvPr/>
        </p:nvPicPr>
        <p:blipFill>
          <a:blip r:embed="rId1"/>
          <a:stretch/>
        </p:blipFill>
        <p:spPr>
          <a:xfrm>
            <a:off x="838080" y="1735200"/>
            <a:ext cx="7391520" cy="5122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corial Monaste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5" descr="89384-El-Escorial-Monestary-0"/>
          <p:cNvPicPr/>
          <p:nvPr/>
        </p:nvPicPr>
        <p:blipFill>
          <a:blip r:embed="rId1"/>
          <a:stretch/>
        </p:blipFill>
        <p:spPr>
          <a:xfrm>
            <a:off x="990720" y="1600200"/>
            <a:ext cx="6553080" cy="491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 Gre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723920" y="1676520"/>
            <a:ext cx="3962520" cy="44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oes El Greco mea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ginning of the style called “Baroqu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ornate, colorful, lots of gold us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5" descr="el%20greco01"/>
          <p:cNvPicPr/>
          <p:nvPr/>
        </p:nvPicPr>
        <p:blipFill>
          <a:blip r:embed="rId1"/>
          <a:stretch/>
        </p:blipFill>
        <p:spPr>
          <a:xfrm>
            <a:off x="514440" y="1219320"/>
            <a:ext cx="4029120" cy="534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0" y="4800600"/>
            <a:ext cx="4114800" cy="132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o is Don Quixote? Why is his story so appeal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5" descr="don-quixote"/>
          <p:cNvPicPr/>
          <p:nvPr/>
        </p:nvPicPr>
        <p:blipFill>
          <a:blip r:embed="rId1"/>
          <a:stretch/>
        </p:blipFill>
        <p:spPr>
          <a:xfrm>
            <a:off x="7507440" y="0"/>
            <a:ext cx="1636560" cy="21337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7" descr="picasso_don_quixote"/>
          <p:cNvPicPr/>
          <p:nvPr/>
        </p:nvPicPr>
        <p:blipFill>
          <a:blip r:embed="rId2"/>
          <a:stretch/>
        </p:blipFill>
        <p:spPr>
          <a:xfrm>
            <a:off x="0" y="0"/>
            <a:ext cx="2313000" cy="29718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9" descr="Video%20-%20Don%20Quixote%20(TNT%20Original)"/>
          <p:cNvPicPr/>
          <p:nvPr/>
        </p:nvPicPr>
        <p:blipFill>
          <a:blip r:embed="rId3"/>
          <a:stretch/>
        </p:blipFill>
        <p:spPr>
          <a:xfrm>
            <a:off x="2438280" y="228600"/>
            <a:ext cx="2221200" cy="40384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1" descr="DonQuixote"/>
          <p:cNvPicPr/>
          <p:nvPr/>
        </p:nvPicPr>
        <p:blipFill>
          <a:blip r:embed="rId4"/>
          <a:stretch/>
        </p:blipFill>
        <p:spPr>
          <a:xfrm>
            <a:off x="5029200" y="2209680"/>
            <a:ext cx="385452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anish Netherla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abella and Ferdinand’s daughter married Philip the Handsome-&gt;bringing Netherlands with hi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nish Netherlands –Belgium and Netherl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y wealthy area- textile manufactu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vinist ideas -&gt;spreading  by late 16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entu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in tried to impose strict Catholic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-third Netherlands Calvinists- primarily in the Nor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gland (Elizabeth) supported Calvini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nce William of Orange (fought against Spai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troyed the dikes which protected Dutch cities so the Spanish could not rule over th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accord with William’s wishes after the fighting was over the Netherlands became a place of tole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2"/>
          <p:cNvSpPr/>
          <p:nvPr/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Catholic Spain vs. Protestant Netherlands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hilip v. Elizabeth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the Battl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glish sea do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izabeth aiding the Dutch Calvin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izabeth restored Protestantism in Eng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fused Philip’s overtures for marri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ilip was conspiring w/Elizabeth’s Scottish cousin- Mary (no not Bloody Mary)- This Mary was also Cathol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e was also kicked out of Scotland when Knox and others established Presbyteri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895480" y="1066680"/>
            <a:ext cx="60199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anish Armada 1588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hilip II v. Elizabeth I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0" y="4723920"/>
            <a:ext cx="27432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ain Loses to Eng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" descr="map"/>
          <p:cNvPicPr/>
          <p:nvPr/>
        </p:nvPicPr>
        <p:blipFill>
          <a:blip r:embed="rId1"/>
          <a:stretch/>
        </p:blipFill>
        <p:spPr>
          <a:xfrm>
            <a:off x="0" y="0"/>
            <a:ext cx="2857680" cy="45244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9" descr="BHC0262"/>
          <p:cNvPicPr/>
          <p:nvPr/>
        </p:nvPicPr>
        <p:blipFill>
          <a:blip r:embed="rId2"/>
          <a:stretch/>
        </p:blipFill>
        <p:spPr>
          <a:xfrm>
            <a:off x="2895480" y="1940040"/>
            <a:ext cx="6248520" cy="4917960"/>
          </a:xfrm>
          <a:prstGeom prst="rect">
            <a:avLst/>
          </a:prstGeom>
          <a:ln w="0">
            <a:noFill/>
          </a:ln>
        </p:spPr>
      </p:pic>
      <p:sp>
        <p:nvSpPr>
          <p:cNvPr id="97" name="Text Box 10"/>
          <p:cNvSpPr/>
          <p:nvPr/>
        </p:nvSpPr>
        <p:spPr>
          <a:xfrm>
            <a:off x="140040" y="5446800"/>
            <a:ext cx="2792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glish Pirateers- Franc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ake upset Spani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ip wanted England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 Cathol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362320" y="27432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utch Revolt- Netherland Independe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5" descr="pic54565_sized"/>
          <p:cNvPicPr/>
          <p:nvPr/>
        </p:nvPicPr>
        <p:blipFill>
          <a:blip r:embed="rId1"/>
          <a:stretch/>
        </p:blipFill>
        <p:spPr>
          <a:xfrm>
            <a:off x="1219320" y="1600200"/>
            <a:ext cx="6858000" cy="50245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7" descr="CADT_08145_2004%20amsterdam%20dutch%20flag%20c%201075"/>
          <p:cNvPicPr/>
          <p:nvPr/>
        </p:nvPicPr>
        <p:blipFill>
          <a:blip r:embed="rId2"/>
          <a:stretch/>
        </p:blipFill>
        <p:spPr>
          <a:xfrm>
            <a:off x="0" y="0"/>
            <a:ext cx="2286000" cy="151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y 1650 in dec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factors led Spain to a Golden Ag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contributed to its declin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981080" y="304560"/>
            <a:ext cx="472464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erdinand and Isabel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5" descr="s2013_10A"/>
          <p:cNvPicPr/>
          <p:nvPr/>
        </p:nvPicPr>
        <p:blipFill>
          <a:blip r:embed="rId1"/>
          <a:stretch/>
        </p:blipFill>
        <p:spPr>
          <a:xfrm>
            <a:off x="990720" y="2057400"/>
            <a:ext cx="6933960" cy="434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3760" y="456840"/>
            <a:ext cx="3429000" cy="289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anish Inquis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181120" y="2895480"/>
            <a:ext cx="3505320" cy="32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was it so importa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id it help Spai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id it hurt Spai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spanish_inquisition_court"/>
          <p:cNvPicPr/>
          <p:nvPr/>
        </p:nvPicPr>
        <p:blipFill>
          <a:blip r:embed="rId1"/>
          <a:stretch/>
        </p:blipFill>
        <p:spPr>
          <a:xfrm>
            <a:off x="380880" y="685800"/>
            <a:ext cx="4400640" cy="5419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0" y="151920"/>
            <a:ext cx="36576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rles V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876560" y="1143000"/>
            <a:ext cx="3809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rn Spanish Netherla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ther- Habsburg (Philip the Handsom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her- Joanna the M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herited enormous Kingd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cted HRE (generally went to a Habsbur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Emperor_charles_v"/>
          <p:cNvPicPr/>
          <p:nvPr/>
        </p:nvPicPr>
        <p:blipFill>
          <a:blip r:embed="rId1"/>
          <a:stretch/>
        </p:blipFill>
        <p:spPr>
          <a:xfrm>
            <a:off x="762120" y="1143000"/>
            <a:ext cx="3819240" cy="495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rles V Kingdom by Acquis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http://www.lib.utexas.edu/maps/historical/colbeck/europe_1519_charles_v.jpg"/>
          <p:cNvPicPr/>
          <p:nvPr/>
        </p:nvPicPr>
        <p:blipFill>
          <a:blip r:embed="rId1"/>
          <a:stretch/>
        </p:blipFill>
        <p:spPr>
          <a:xfrm>
            <a:off x="1066680" y="1303200"/>
            <a:ext cx="6324840" cy="555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World- Conquistad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5" descr="cortez2"/>
          <p:cNvPicPr/>
          <p:nvPr/>
        </p:nvPicPr>
        <p:blipFill>
          <a:blip r:embed="rId1"/>
          <a:stretch/>
        </p:blipFill>
        <p:spPr>
          <a:xfrm>
            <a:off x="457200" y="1523880"/>
            <a:ext cx="4419720" cy="26193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9" descr="atahualpa_meets_pizarro"/>
          <p:cNvPicPr/>
          <p:nvPr/>
        </p:nvPicPr>
        <p:blipFill>
          <a:blip r:embed="rId2"/>
          <a:stretch/>
        </p:blipFill>
        <p:spPr>
          <a:xfrm>
            <a:off x="5105520" y="1600200"/>
            <a:ext cx="3330360" cy="3962520"/>
          </a:xfrm>
          <a:prstGeom prst="rect">
            <a:avLst/>
          </a:prstGeom>
          <a:ln w="0">
            <a:noFill/>
          </a:ln>
        </p:spPr>
      </p:pic>
      <p:sp>
        <p:nvSpPr>
          <p:cNvPr id="59" name="Text Box 10"/>
          <p:cNvSpPr/>
          <p:nvPr/>
        </p:nvSpPr>
        <p:spPr>
          <a:xfrm>
            <a:off x="685800" y="586728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xico, Central America, Mid-America, California Coast, Peru, Venezuela, Ecuador, Chile, Argent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1"/>
          <p:cNvSpPr/>
          <p:nvPr/>
        </p:nvSpPr>
        <p:spPr>
          <a:xfrm>
            <a:off x="609480" y="449568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tez, Pizarro, De Soto, De Leon, Cabril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3760" y="274320"/>
            <a:ext cx="3352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anish Gold and Silv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5" descr="43-2l"/>
          <p:cNvPicPr/>
          <p:nvPr/>
        </p:nvPicPr>
        <p:blipFill>
          <a:blip r:embed="rId1"/>
          <a:stretch/>
        </p:blipFill>
        <p:spPr>
          <a:xfrm>
            <a:off x="457200" y="990720"/>
            <a:ext cx="4267080" cy="50292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7" descr="1-3-1-D"/>
          <p:cNvPicPr/>
          <p:nvPr/>
        </p:nvPicPr>
        <p:blipFill>
          <a:blip r:embed="rId2"/>
          <a:stretch/>
        </p:blipFill>
        <p:spPr>
          <a:xfrm>
            <a:off x="5181480" y="2909880"/>
            <a:ext cx="2990880" cy="2548080"/>
          </a:xfrm>
          <a:prstGeom prst="rect">
            <a:avLst/>
          </a:prstGeom>
          <a:ln w="0">
            <a:noFill/>
          </a:ln>
        </p:spPr>
      </p:pic>
      <p:sp>
        <p:nvSpPr>
          <p:cNvPr id="65" name="Text Box 8"/>
          <p:cNvSpPr/>
          <p:nvPr/>
        </p:nvSpPr>
        <p:spPr>
          <a:xfrm>
            <a:off x="5410080" y="259092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zarro conquers Pe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240" y="838080"/>
            <a:ext cx="205740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ilip 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304560" y="2438280"/>
            <a:ext cx="236196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nted the non-Habsburg Emp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5" descr="habs245"/>
          <p:cNvPicPr/>
          <p:nvPr/>
        </p:nvPicPr>
        <p:blipFill>
          <a:blip r:embed="rId1"/>
          <a:stretch/>
        </p:blipFill>
        <p:spPr>
          <a:xfrm>
            <a:off x="2968560" y="380880"/>
            <a:ext cx="4194360" cy="5819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anish Empire 16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Centu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5" descr="apeh5"/>
          <p:cNvPicPr/>
          <p:nvPr/>
        </p:nvPicPr>
        <p:blipFill>
          <a:blip r:embed="rId1"/>
          <a:stretch/>
        </p:blipFill>
        <p:spPr>
          <a:xfrm>
            <a:off x="380880" y="1447920"/>
            <a:ext cx="8583840" cy="47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7T12:11:56Z</dcterms:created>
  <dc:creator>Darien Public Schools</dc:creator>
  <dc:description/>
  <dc:language>en-US</dc:language>
  <cp:lastModifiedBy>Balazs, Stephen</cp:lastModifiedBy>
  <dcterms:modified xsi:type="dcterms:W3CDTF">2014-03-12T11:19:28Z</dcterms:modified>
  <cp:revision>18</cp:revision>
  <dc:subject/>
  <dc:title>Spain 16th -17th Century</dc:title>
</cp:coreProperties>
</file>